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71BBA-1286-4468-9624-A6B6C20C13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58950-5AE0-44BB-A9CA-A17A72BAB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90FF2-C3E8-4483-A7EF-FBFA69CD7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356-33D8-44E8-B5F1-4886968A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E180-6539-4648-A699-D2B3B30C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500D-5887-49AC-B327-7225BD69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F58E-2079-4CBD-81B7-EF912FF7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9FD1-0D4A-4E85-83C6-6DFA048A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9F31-98A9-4A6C-84E1-6A46CE38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4D0E-CFF2-495E-B475-DB8E0799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9D2A-7B9D-44B3-87C1-30A39BBA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76F0-A3FA-4441-82C1-F214515C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CDEE-36DC-4309-923B-ECC10FAF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ACFC-653D-4CD4-A3C0-61E7A8C8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9DDD-0301-4089-9E70-54B2D290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1849-2C1B-4316-9C60-534BF7A3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44C1-07AC-494B-909D-11031F0A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55F8-0BCF-40C0-99A6-1B2673A2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3CCF-1739-4955-9777-40CEB558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66C9-A3B4-4413-87D6-05200C53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9B70B-CEE5-408A-AC9B-E57FCFBB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10282-7DF5-4DA6-A56F-5873E9D3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B9A23-821F-41B8-B22B-5077B853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6707E-69FF-43A8-B4C7-EE5CF9FE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F50CB-D99E-401C-AE5D-0F096443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BE81-521D-43C9-880A-92D9DE3F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61655-3DB8-4779-9C79-D9D628EF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7261E-A178-43C2-9878-E21A6FA6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08AA2-0DFE-4D9D-960E-BF8EFF26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11298-0FD1-47B3-8879-F7D01C8B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C4775-8648-412E-948E-619F2E44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9E4F6-E7D2-4D71-A2E4-B472B6A4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FCB58-0011-4924-A0E5-886F93C9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64B08-26A0-4CE4-8711-8B491B72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69049-B0D7-4323-8C68-58614223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2C168-09F5-4228-B842-F1B821A5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B4E0-D613-4458-A724-E30E50F1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16D1F-543B-4B4E-A8B2-5B8090C6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92ECA-4B8E-4353-8695-2C075B0F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74328-F1EE-441A-A279-E7BA98CA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86F27-0409-4295-83EC-3C2B562F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6A8FD-DD12-4445-95A6-0B6E007D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774F7-E585-43A4-B14D-5A2211E0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EAD02-9E52-4A35-983A-5B5EC673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79F9B-6C6A-48F4-980C-4923B008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418C3-82DE-4CE1-976B-ED23BD96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A790A-AFD1-4F5B-81A3-B0EBC5D8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34A2-D222-499C-953F-E6E37C62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1FD02-7986-40C2-989C-1DDCFBBD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5C0C1-59A9-4677-8DFF-A2DB64B5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0A349-FF5F-4285-B6D3-33EBB803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7FFB1-4698-416D-8393-08E9578D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E2869-B24F-4F71-B362-73E9A05F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788E0-B762-478B-94DA-849B6CA9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339D5-EADA-47B4-8D7F-E35622CD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F1815-4431-4257-9250-10A43967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2EE3E-F1C9-4E24-A725-760B66E8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F1349-E564-4A90-A028-851960CF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567-A890-4903-93D6-0FCE058E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1A976-D1C3-44A7-9436-6E68B047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285-3FA8-48B4-8037-92243EA7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E923-DEFD-427A-8F77-460C48D0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BFB-8071-4647-A25B-DBB43B1A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E45B3-2D60-41CD-BC11-BA4A89F2CEFE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FA443-22CE-48A0-8BB9-E818F8A94A3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F65257-F539-4613-8704-119A83499BAE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6ABA2D-45EA-42CF-92DA-4F76D4C7174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22922-4A1C-43BB-8B4B-41B708FD067D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B05E6-09FF-44F5-A6DE-B7953EB682B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F410C-7FAC-4681-A96E-73A9B2A0A09C}" type="datetime"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80AD5-7728-43C9-B00C-D6AFED03DFC1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E7CCF-A880-4D0B-9264-2A3BB41531FC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CB53C-3F91-4F5E-B7B7-FD4FC7B6436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119560" cy="2882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3" descr=""/>
          <p:cNvPicPr/>
          <p:nvPr/>
        </p:nvPicPr>
        <p:blipFill>
          <a:blip r:embed="rId2"/>
          <a:stretch/>
        </p:blipFill>
        <p:spPr>
          <a:xfrm>
            <a:off x="5383080" y="1212840"/>
            <a:ext cx="3443400" cy="7128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5105520" y="2437920"/>
            <a:ext cx="3713040" cy="358164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>
              <a:lnSpc>
                <a:spcPct val="100000"/>
              </a:lnSpc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enager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ve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ries a wand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y’s “Expecto Patronum”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ning bolt scar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1" name="Picture Placeholder 6" descr="images.jpg"/>
          <p:cNvPicPr/>
          <p:nvPr/>
        </p:nvPicPr>
        <p:blipFill>
          <a:blip r:embed="rId3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2"/>
          <a:stretch/>
        </p:blipFill>
        <p:spPr>
          <a:xfrm>
            <a:off x="5383080" y="1036800"/>
            <a:ext cx="3443400" cy="6332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5389200" y="2133720"/>
            <a:ext cx="3429000" cy="44193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5000"/>
          </a:bodyPr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Long, dark hair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Self conscious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Which one should I choose?”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Her blood smells good to others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“…</a:t>
            </a: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vampire”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4" name="Picture Placeholder 4" descr="images-1.jpg"/>
          <p:cNvPicPr/>
          <p:nvPr/>
        </p:nvPicPr>
        <p:blipFill>
          <a:blip r:embed="rId3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2"/>
          <a:stretch/>
        </p:blipFill>
        <p:spPr>
          <a:xfrm>
            <a:off x="5383080" y="1036800"/>
            <a:ext cx="3443400" cy="5540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5389200" y="1916280"/>
            <a:ext cx="3429000" cy="379872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ourageous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Selfless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Red and blue sui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Scales buildings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Shoots webs from his wrists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7" name="Picture Placeholder 4" descr="images-2.jpg"/>
          <p:cNvPicPr/>
          <p:nvPr/>
        </p:nvPicPr>
        <p:blipFill>
          <a:blip r:embed="rId3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00:25:44Z</dcterms:created>
  <dc:creator>Stephanie Palmieri</dc:creator>
  <dc:description/>
  <dc:language>en-US</dc:language>
  <cp:lastModifiedBy>Stephanie Palmieri</cp:lastModifiedBy>
  <dcterms:modified xsi:type="dcterms:W3CDTF">2010-06-24T01:05:04Z</dcterms:modified>
  <cp:revision>1</cp:revision>
  <dc:subject/>
  <dc:title>Characterization</dc:title>
</cp:coreProperties>
</file>